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0093-5E07-4EF5-9F69-596F9BD8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C9E-0B7F-4D70-91D9-9BC7853B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F7B-48EB-4A57-8531-F66A6A04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107-2A8D-4F6C-9E62-35B17247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3A90-0F4E-4CEC-ADE8-BE407C41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1E4E-F7EF-450E-B489-E0116B78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95E9-259B-4F62-9C4A-78B93C90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54BE-AA1F-4648-A0DF-1D794923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C428-61AB-439F-B798-569CEA47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C8D1-2531-4133-A6A9-91136592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090C-D5FE-4DB7-9044-4115E6DA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6541-F9D7-45E3-80A3-639D00C7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7170-45B8-4DD7-B99E-BA095BD0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4936-B369-4409-93DA-9A8F74D6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B737-F458-4B5A-A0F9-948DF990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F8D8-9C05-4219-BA2A-AC40930C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A31E-09D7-40A0-9BC3-2EDDA197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633B4-1B5D-42D2-815A-938FBA07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76892-3EDD-4922-AC85-326E644E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27C44-7FEE-4411-924A-84C67225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39208-41B0-4D1F-A8BF-38DAF7D6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E39F8-2C77-4FB8-B283-11C839E5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2BD-996A-4390-84D5-DD891483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F1CDB-0F7F-4A43-9BCB-40A7F0EF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0E290-BF59-4058-A934-0DD3B88E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449FC-76FB-4D92-B353-019E00EE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8E991-FE57-48D6-A391-CBC33CAA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0D602-8414-4D89-9325-16D18449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74C2D-DE97-4AFD-AD06-C3E4F89E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9B806-98C4-4D8E-91EC-08207DFB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D3186-E810-439D-BF2B-2AF1B523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E201E-1542-489B-BFB4-406B7709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9FB7D-4E9A-4CC9-ADE4-EA7F78DF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275-C8C5-47BE-907E-394A160A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37464-FE07-4D0D-AABB-F632511B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3D172-F1B8-4BFE-94FD-C68EE477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425B3-BEFC-4340-AE86-06A270FF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9D74C-549B-4D39-A86E-F10965D1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70406-E56A-4F6F-A12A-591759E1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E0E6E-ADA0-4B60-92A8-A723E031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5FD0A-51C9-4602-A0CB-6C83463A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17E20-398D-466B-8BBF-51CA7482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290AB-B1AB-4798-B1A9-EDFEC1CD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FEF-C3FF-47E4-A039-55E5015C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1D1-5778-4E27-845C-197E3AE9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AC7C-7CD3-4EFD-A60F-3281CE0A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9F3-42F7-47AA-B316-1887F61E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262-C6D5-46C9-8186-751DE30C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360D-2BF5-45A3-8AF2-49E91AFD637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B624-18D0-4FD1-AB1B-0FE6334E5FE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CAEA-0A35-4080-A413-67342B2D07C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DF95-69B1-466B-990B-15872291BBE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37680" cy="1908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ackground Inform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a Limiting Factor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8600" y="1828440"/>
            <a:ext cx="46483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imiting Factors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re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two similar definitions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spcBef>
                <a:spcPts val="7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conditions of the environment that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nstantia"/>
              </a:rPr>
              <a:t>limit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 the growth of a species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spcBef>
                <a:spcPts val="7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biotic and abiotic factors that prevent the continuous growth of a population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avandegrift\AppData\Local\Microsoft\Windows\Temporary Internet Files\Content.IE5\66PBTUUR\MPj04372680000[1].jpg"/>
          <p:cNvPicPr/>
          <p:nvPr/>
        </p:nvPicPr>
        <p:blipFill>
          <a:blip r:embed="rId1"/>
          <a:stretch/>
        </p:blipFill>
        <p:spPr>
          <a:xfrm>
            <a:off x="4876920" y="2789280"/>
            <a:ext cx="40384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a Limiting Factor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28600" y="2087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opulations would continue to increase if they had all of the resources they require in unlimited amounts, but there are always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factors that limit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ir increas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imiting factors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ontrol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opulation growth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C:\Users\cmatthaei\Desktop\Misc. Stuff\Best Hawaii Pics\DSC_0229132.jpg"/>
          <p:cNvPicPr/>
          <p:nvPr/>
        </p:nvPicPr>
        <p:blipFill>
          <a:blip r:embed="rId1"/>
          <a:stretch/>
        </p:blipFill>
        <p:spPr>
          <a:xfrm>
            <a:off x="5334120" y="4114800"/>
            <a:ext cx="35431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t’s list some Limiting Factors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Carrying Capacit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163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use of these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imiting factors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, each ecosystem has a finite capacity for growth connected to its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arrying capacity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C:\Users\cmatthaei\Desktop\Misc. Stuff\Best Hawaii Pics\IMG_0534.JPG"/>
          <p:cNvPicPr/>
          <p:nvPr/>
        </p:nvPicPr>
        <p:blipFill>
          <a:blip r:embed="rId1"/>
          <a:stretch/>
        </p:blipFill>
        <p:spPr>
          <a:xfrm>
            <a:off x="4876920" y="3962520"/>
            <a:ext cx="3419280" cy="2279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Users\cmatthaei\Desktop\Misc. Stuff\Best Hawaii Pics\IMG_0566.JPG"/>
          <p:cNvPicPr/>
          <p:nvPr/>
        </p:nvPicPr>
        <p:blipFill>
          <a:blip r:embed="rId2"/>
          <a:stretch/>
        </p:blipFill>
        <p:spPr>
          <a:xfrm>
            <a:off x="757080" y="3962520"/>
            <a:ext cx="343404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Carrying Capacit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419720" y="2193480"/>
            <a:ext cx="44956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arrying capacity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s the number of individuals of a species that an ecosystem can support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C:\Users\avandegrift\AppData\Local\Microsoft\Windows\Temporary Internet Files\Content.IE5\66PBTUUR\MPj04068550000[1].jpg"/>
          <p:cNvPicPr/>
          <p:nvPr/>
        </p:nvPicPr>
        <p:blipFill>
          <a:blip r:embed="rId1"/>
          <a:stretch/>
        </p:blipFill>
        <p:spPr>
          <a:xfrm>
            <a:off x="457200" y="279252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4617b"/>
                </a:solidFill>
                <a:latin typeface="Calibri"/>
              </a:rPr>
              <a:t>Limiting Factors of the Cedar Glade </a:t>
            </a:r>
            <a:r>
              <a:rPr b="0" lang="en-US" sz="3800" spc="-1" strike="noStrike">
                <a:solidFill>
                  <a:srgbClr val="04617b"/>
                </a:solidFill>
                <a:latin typeface="Calibri"/>
              </a:rPr>
              <a:t>Activity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nature, populations of organisms rarely grow uncontrolled.  Each ecosystem has a carrying capacity (or number or organisms it can sustain/support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member, limiting factors are biotic and abiotic factors that prevent the continuous growth of a popula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ecause of limiting factors, the number of organisms in a population is often well below carrying capacity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Limiting Factors of the Cedar Glade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ctivit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activity will look at limiting factors found in the Cedar Glade ecosystem, and their impact on population growt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http://www.apsu.edu/baskaufc/cedar-glade-wet.jpg"/>
          <p:cNvPicPr/>
          <p:nvPr/>
        </p:nvPicPr>
        <p:blipFill>
          <a:blip r:embed="rId1"/>
          <a:stretch/>
        </p:blipFill>
        <p:spPr>
          <a:xfrm>
            <a:off x="533520" y="2971800"/>
            <a:ext cx="5429160" cy="3581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50birds.com/uploads/Byuboy54/2004-10-22_164458_Hooty,-The-Barred-Owl-contest.jpg"/>
          <p:cNvPicPr/>
          <p:nvPr/>
        </p:nvPicPr>
        <p:blipFill>
          <a:blip r:embed="rId2"/>
          <a:stretch/>
        </p:blipFill>
        <p:spPr>
          <a:xfrm>
            <a:off x="6629400" y="2438280"/>
            <a:ext cx="1828800" cy="2827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http://kids.nationalgeographic.com/staticfiles/NGS/Shared/StaticFiles/NGKids/Image/wildmouse_lg.jpg"/>
          <p:cNvPicPr/>
          <p:nvPr/>
        </p:nvPicPr>
        <p:blipFill>
          <a:blip r:embed="rId3"/>
          <a:stretch/>
        </p:blipFill>
        <p:spPr>
          <a:xfrm>
            <a:off x="6629400" y="5410080"/>
            <a:ext cx="182880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details of the activity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http://www.friendsofsherwoodisland.org/Photos/Hand/BoP/AJH-BarredOwl-carryoff.jpg"/>
          <p:cNvPicPr/>
          <p:nvPr/>
        </p:nvPicPr>
        <p:blipFill>
          <a:blip r:embed="rId1"/>
          <a:stretch/>
        </p:blipFill>
        <p:spPr>
          <a:xfrm>
            <a:off x="380880" y="1828800"/>
            <a:ext cx="8339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3:44:07Z</dcterms:created>
  <dc:creator>User</dc:creator>
  <dc:description/>
  <dc:language>en-US</dc:language>
  <cp:lastModifiedBy>User</cp:lastModifiedBy>
  <dcterms:modified xsi:type="dcterms:W3CDTF">2009-11-30T23:24:32Z</dcterms:modified>
  <cp:revision>11</cp:revision>
  <dc:subject/>
  <dc:title>Limiting Factors</dc:title>
</cp:coreProperties>
</file>